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4E0-B188-4B39-9DB4-6208E179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C93-838C-49F7-8787-D293414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FF2-AAA0-4B14-B0F5-F64E7B7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519-CD4B-45C8-A262-55FADF89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140-674E-4B89-8F96-C2248B21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CA6-48FC-4782-91E4-3589A66B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5E9-0ACE-4931-8D7E-7F90DB21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CF7-E6CD-49F8-9FF5-FA95016F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091-CCBA-41BA-AE0E-20D2893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195-57F7-4AB6-A990-58F79906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713-9677-4938-86BE-C3EB5D9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807-76AE-4824-9740-B6D06751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401E-ABC2-4F41-B9D6-B9364D0C4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11280" y="1611360"/>
            <a:ext cx="735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pare   v.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[prɪ’peə(r)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de      n.   [praɪ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ud    adj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1280" y="75708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Many people ____ ______ _____ fun dances and colorful culture in Brazil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urkey is in both America and Europe.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What other things you can see and do in Egyp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What is the population of China? And what about recent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More students come to the front to talk about their countries with pr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标题 3"/>
          <p:cNvSpPr/>
          <p:nvPr/>
        </p:nvSpPr>
        <p:spPr>
          <a:xfrm>
            <a:off x="826920" y="44280"/>
            <a:ext cx="7632720" cy="7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ad and and do the following tasks</a:t>
            </a:r>
            <a:r>
              <a:rPr b="1" i="1" lang="en-US" sz="2800" spc="-1" strike="noStrike">
                <a:solidFill>
                  <a:srgbClr val="5724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6E9-27CB-45F0-AED4-B7D573DD9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21080" y="658800"/>
            <a:ext cx="7555680" cy="715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d and and do the following tasks</a:t>
            </a:r>
            <a:r>
              <a:rPr b="1" lang="en-US" sz="2800" spc="-1" strike="noStrike">
                <a:solidFill>
                  <a:srgbClr val="5724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1280" y="190656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Many people ____ ______ _____ fun dances and colorful culture in Braz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urkey is in both America and Europe.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What other things you can see and do in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43280" y="184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  known 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164360" y="357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24000" y="486900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can relax on a boat tour of the Nile. You can ride a camel in the Sahara Desert or walk in the Cai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611280" y="292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  known  for: are famou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AC75-4595-4835-8A16-EB71B76D77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0"/>
          <p:cNvSpPr/>
          <p:nvPr/>
        </p:nvSpPr>
        <p:spPr>
          <a:xfrm>
            <a:off x="0" y="1197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What is the population of China? And what about recent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More students come to the front to talk about their countries with pr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79280" y="218772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has the largest population in the world. And it has developed  quickly in recent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179280" y="4365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多的学生到前面骄傲地谈论他们自己的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2627280" y="378936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4"/>
          <p:cNvSpPr/>
          <p:nvPr/>
        </p:nvSpPr>
        <p:spPr>
          <a:xfrm>
            <a:off x="4282920" y="3139920"/>
            <a:ext cx="2449800" cy="1800"/>
          </a:xfrm>
          <a:prstGeom prst="line">
            <a:avLst/>
          </a:prstGeom>
          <a:ln w="25560">
            <a:solidFill>
              <a:srgbClr val="0020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8"/>
          <p:cNvSpPr/>
          <p:nvPr/>
        </p:nvSpPr>
        <p:spPr>
          <a:xfrm>
            <a:off x="3132000" y="4869000"/>
            <a:ext cx="1079640" cy="1440"/>
          </a:xfrm>
          <a:prstGeom prst="line">
            <a:avLst/>
          </a:prstGeom>
          <a:ln w="25560">
            <a:solidFill>
              <a:srgbClr val="0020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EF3B-0B4C-481A-8A75-EBED7D0E9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908000" y="36259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0" y="4005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1280" y="44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282920" y="4365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755640" y="48387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n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9564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694836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1476360" y="63961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315-8AF4-4BB9-96D1-71AEE766D6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042920" y="24019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u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843280" y="306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70036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p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403280" y="494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6012000" y="4983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pr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700360" y="6218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6197-D4E2-4F57-B86A-4DBFF6605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9" descr="7656323_091222899000_2.jpg"/>
          <p:cNvPicPr/>
          <p:nvPr/>
        </p:nvPicPr>
        <p:blipFill>
          <a:blip r:embed="rId1"/>
          <a:srcRect l="33334" t="0" r="0" b="5966"/>
          <a:stretch/>
        </p:blipFill>
        <p:spPr>
          <a:xfrm>
            <a:off x="0" y="133992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395280" y="2852640"/>
            <a:ext cx="3960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Task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Make a report to Introduce one country you like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643280" y="2852640"/>
            <a:ext cx="442764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Task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Make a dialogue about one country you like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E67D-FD24-4984-A0B3-1FA57A5C5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09080" y="1090440"/>
            <a:ext cx="7423560" cy="70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</a:rPr>
              <a:t>Homework</a:t>
            </a:r>
            <a:r>
              <a:rPr b="1" lang="en-US" sz="2800" spc="-1" strike="noStrike">
                <a:solidFill>
                  <a:srgbClr val="5724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20464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397440" indent="-3974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Introduce one country you want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go in the fut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big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famou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7B96-478A-4A12-8724-CFB2B5396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3" descr="C:\Users\BSFX\Desktop\u=2775759695,2312524416&amp;fm=23&amp;gp=0.jpg"/>
            <p:cNvPicPr/>
            <p:nvPr/>
          </p:nvPicPr>
          <p:blipFill>
            <a:blip r:embed="rId1"/>
            <a:srcRect l="0" t="5782" r="3076" b="757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矩形 5"/>
            <p:cNvSpPr/>
            <p:nvPr/>
          </p:nvSpPr>
          <p:spPr>
            <a:xfrm>
              <a:off x="5076000" y="6105600"/>
              <a:ext cx="3996000" cy="70344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mazon Ri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C68F-CDAD-4C00-AE38-F2D47A284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BSFX\Desktop\u=1162760338,2231062946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79280" y="59500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ain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CE97-0EDD-467C-911F-303149FA3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BSFX\Desktop\u=3227578360,413476863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08000" y="44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DA0-C4C7-4C6E-A175-B058275727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BSFX\Desktop\u=2765961473,3023462435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1E0E-422D-4F4C-A626-C1A6DB2AB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0"/>
          <p:cNvGrpSpPr/>
          <p:nvPr/>
        </p:nvGrpSpPr>
        <p:grpSpPr>
          <a:xfrm>
            <a:off x="4211640" y="0"/>
            <a:ext cx="4681440" cy="2205000"/>
            <a:chOff x="4211640" y="0"/>
            <a:chExt cx="4681440" cy="2205000"/>
          </a:xfrm>
        </p:grpSpPr>
        <p:pic>
          <p:nvPicPr>
            <p:cNvPr id="60" name="Picture 3" descr="C:\Users\BSFX\Desktop\u=179437940,3285865623&amp;fm=23&amp;gp=0.jpg"/>
            <p:cNvPicPr/>
            <p:nvPr/>
          </p:nvPicPr>
          <p:blipFill>
            <a:blip r:embed="rId1"/>
            <a:srcRect l="0" t="11099" r="0" b="6135"/>
            <a:stretch/>
          </p:blipFill>
          <p:spPr>
            <a:xfrm>
              <a:off x="4211640" y="0"/>
              <a:ext cx="468144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6"/>
            <p:cNvSpPr/>
            <p:nvPr/>
          </p:nvSpPr>
          <p:spPr>
            <a:xfrm>
              <a:off x="4211640" y="1620360"/>
              <a:ext cx="288108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Niagara Fal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1"/>
          <p:cNvGrpSpPr/>
          <p:nvPr/>
        </p:nvGrpSpPr>
        <p:grpSpPr>
          <a:xfrm>
            <a:off x="179280" y="2232000"/>
            <a:ext cx="4321440" cy="2276640"/>
            <a:chOff x="179280" y="2232000"/>
            <a:chExt cx="4321440" cy="2276640"/>
          </a:xfrm>
        </p:grpSpPr>
        <p:pic>
          <p:nvPicPr>
            <p:cNvPr id="63" name="Picture 2" descr="C:\Users\BSFX\Desktop\u=4230364156,920453691&amp;fm=56.jpg"/>
            <p:cNvPicPr/>
            <p:nvPr/>
          </p:nvPicPr>
          <p:blipFill>
            <a:blip r:embed="rId2"/>
            <a:stretch/>
          </p:blipFill>
          <p:spPr>
            <a:xfrm>
              <a:off x="179280" y="2232000"/>
              <a:ext cx="432144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矩形 7"/>
            <p:cNvSpPr/>
            <p:nvPr/>
          </p:nvSpPr>
          <p:spPr>
            <a:xfrm>
              <a:off x="2700000" y="3924000"/>
              <a:ext cx="180072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yram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2"/>
          <p:cNvGrpSpPr/>
          <p:nvPr/>
        </p:nvGrpSpPr>
        <p:grpSpPr>
          <a:xfrm>
            <a:off x="3851280" y="4530600"/>
            <a:ext cx="4968720" cy="2215800"/>
            <a:chOff x="3851280" y="4530600"/>
            <a:chExt cx="4968720" cy="2215800"/>
          </a:xfrm>
        </p:grpSpPr>
        <p:pic>
          <p:nvPicPr>
            <p:cNvPr id="66" name="Picture 4" descr="C:\Users\BSFX\Desktop\u=2794099826,3814806922&amp;fm=23&amp;gp=0.jpg"/>
            <p:cNvPicPr/>
            <p:nvPr/>
          </p:nvPicPr>
          <p:blipFill>
            <a:blip r:embed="rId3"/>
            <a:stretch/>
          </p:blipFill>
          <p:spPr>
            <a:xfrm>
              <a:off x="3851280" y="4530600"/>
              <a:ext cx="4968720" cy="22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9"/>
            <p:cNvSpPr/>
            <p:nvPr/>
          </p:nvSpPr>
          <p:spPr>
            <a:xfrm>
              <a:off x="6227640" y="6165000"/>
              <a:ext cx="252036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Eiffel Tow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3A7-571D-4356-9AE8-D5F3DF714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9"/>
          <p:cNvGrpSpPr/>
          <p:nvPr/>
        </p:nvGrpSpPr>
        <p:grpSpPr>
          <a:xfrm>
            <a:off x="179280" y="44280"/>
            <a:ext cx="4654800" cy="2238120"/>
            <a:chOff x="179280" y="44280"/>
            <a:chExt cx="4654800" cy="2238120"/>
          </a:xfrm>
        </p:grpSpPr>
        <p:pic>
          <p:nvPicPr>
            <p:cNvPr id="70" name="Picture 2" descr="C:\Users\BSFX\Desktop\u=1856311095,4205582409&amp;fm=90&amp;gp=0.jpg"/>
            <p:cNvPicPr/>
            <p:nvPr/>
          </p:nvPicPr>
          <p:blipFill>
            <a:blip r:embed="rId1"/>
            <a:stretch/>
          </p:blipFill>
          <p:spPr>
            <a:xfrm>
              <a:off x="179280" y="44280"/>
              <a:ext cx="465480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矩形 6"/>
            <p:cNvSpPr/>
            <p:nvPr/>
          </p:nvSpPr>
          <p:spPr>
            <a:xfrm>
              <a:off x="179280" y="1701000"/>
              <a:ext cx="403272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osphorous Bri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0"/>
          <p:cNvGrpSpPr/>
          <p:nvPr/>
        </p:nvGrpSpPr>
        <p:grpSpPr>
          <a:xfrm>
            <a:off x="3995640" y="2349360"/>
            <a:ext cx="4897440" cy="2232000"/>
            <a:chOff x="3995640" y="2349360"/>
            <a:chExt cx="4897440" cy="2232000"/>
          </a:xfrm>
        </p:grpSpPr>
        <p:pic>
          <p:nvPicPr>
            <p:cNvPr id="73" name="Picture 6" descr="C:\Users\BSFX\Desktop\u=2199029087,3131312925&amp;fm=23&amp;gp=0.jpg"/>
            <p:cNvPicPr/>
            <p:nvPr/>
          </p:nvPicPr>
          <p:blipFill>
            <a:blip r:embed="rId2"/>
            <a:stretch/>
          </p:blipFill>
          <p:spPr>
            <a:xfrm>
              <a:off x="3995640" y="2349360"/>
              <a:ext cx="4897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矩形 7"/>
            <p:cNvSpPr/>
            <p:nvPr/>
          </p:nvSpPr>
          <p:spPr>
            <a:xfrm>
              <a:off x="3995640" y="3996720"/>
              <a:ext cx="180036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erl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1"/>
          <p:cNvGrpSpPr/>
          <p:nvPr/>
        </p:nvGrpSpPr>
        <p:grpSpPr>
          <a:xfrm>
            <a:off x="71280" y="4697280"/>
            <a:ext cx="4861080" cy="2160720"/>
            <a:chOff x="71280" y="4697280"/>
            <a:chExt cx="4861080" cy="2160720"/>
          </a:xfrm>
        </p:grpSpPr>
        <p:pic>
          <p:nvPicPr>
            <p:cNvPr id="76" name="Picture 3" descr="C:\Users\BSFX\Desktop\u=2775759695,2312524416&amp;fm=23&amp;gp=0.jpg"/>
            <p:cNvPicPr/>
            <p:nvPr/>
          </p:nvPicPr>
          <p:blipFill>
            <a:blip r:embed="rId3"/>
            <a:srcRect l="0" t="5782" r="3076" b="7571"/>
            <a:stretch/>
          </p:blipFill>
          <p:spPr>
            <a:xfrm>
              <a:off x="71280" y="4697280"/>
              <a:ext cx="4861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8"/>
            <p:cNvSpPr/>
            <p:nvPr/>
          </p:nvSpPr>
          <p:spPr>
            <a:xfrm>
              <a:off x="1907280" y="6273000"/>
              <a:ext cx="302508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mazon Ri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728-618B-4DA2-9B49-4154B809B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050920" y="2565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sson 4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class of the wor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266920" y="5734080"/>
            <a:ext cx="658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5171"/>
          <p:cNvSpPr/>
          <p:nvPr/>
        </p:nvSpPr>
        <p:spPr>
          <a:xfrm>
            <a:off x="2421000" y="909720"/>
            <a:ext cx="32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　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BC4-EF1F-4A37-864A-B58A2DD01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588000" y="2781360"/>
            <a:ext cx="360360" cy="39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5244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3276720" y="5157720"/>
            <a:ext cx="352440" cy="30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3348000" y="6308640"/>
            <a:ext cx="338040" cy="297000"/>
          </a:xfrm>
          <a:prstGeom prst="rect">
            <a:avLst/>
          </a:prstGeom>
          <a:ln w="0">
            <a:noFill/>
          </a:ln>
        </p:spPr>
      </p:pic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1450-0032-481E-9B29-836C18A44D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50:08Z</dcterms:created>
  <dc:creator> </dc:creator>
  <dc:description> </dc:description>
  <dc:language>en-US</dc:language>
  <cp:lastModifiedBy>Administrator</cp:lastModifiedBy>
  <dcterms:modified xsi:type="dcterms:W3CDTF">2019-01-02T02:51:12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